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691F-7539-491D-A0CB-C9AE68DF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F1C0-199A-4244-9EDD-2588D0623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2B80-3070-4EB1-B8B5-37960282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7B16-351E-4FF2-9281-8F8CE737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5712-D214-4BCC-A26B-A79F1442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7C6F-FBE1-4EA0-BBC2-69F4C3C6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E8E7-DDD0-4483-8592-93480871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4596-F0D0-46CA-BF43-FB7ADF8E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E0FA-216B-4925-9E21-0F0D05E0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D9A-2FD8-4183-84BA-F9596489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3F1A-324B-4554-A923-FB66E276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0540-352D-4916-908A-8F531524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8BD7-ED27-4B74-A46D-9AB8AEE1C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227160" y="3716280"/>
            <a:ext cx="8689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أن هناك من المسلمين من يسمع لقول المنافقين ويعجب 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793800" y="1125360"/>
            <a:ext cx="8190000" cy="64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2673360" y="3043080"/>
            <a:ext cx="6273720" cy="635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1058760" y="4653000"/>
            <a:ext cx="7834320" cy="64764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50920" y="5300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تخلف عن القتال مع ا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74680" y="1844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و كان في نيتهم الخروج للقتال لتجهزوا بالعدة والزا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12"/>
          <a:stretch/>
        </p:blipFill>
        <p:spPr>
          <a:xfrm>
            <a:off x="250920" y="836640"/>
            <a:ext cx="864216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588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3"/>
          <a:stretch/>
        </p:blipFill>
        <p:spPr>
          <a:xfrm>
            <a:off x="250920" y="1082520"/>
            <a:ext cx="863100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96600" cy="7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250920" y="2008080"/>
            <a:ext cx="8642160" cy="46609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719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خر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مكثوا مع المرضى والنساء والصبيان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سمح لي في التخلف عن القتا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1484280"/>
            <a:ext cx="8665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ون يمثلون خطراً عظيماً على 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 والمسلم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206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ساءه عز الإسلام وانتشاره وتمسك الناس به وإن صلى وصام وزعم أنه مسلم فهو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اف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278136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ذكر تخلف المنافقين للرسول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والمؤمن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تسلية 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3429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سعي لإطفاء نور الله والصد عن سبي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400536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نع الإمام من يُتهم بمضرة المسلمين من الخروج للجهاد في سبيل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ن حق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4581360"/>
            <a:ext cx="8665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نزول قوله تعالى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نزل في الجد بن قيس حين قال للنبي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إني أخشى على نفسي ببنات بني الأصفر فأذن لي في القعود . فأذن 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2"/>
          <a:stretch/>
        </p:blipFill>
        <p:spPr>
          <a:xfrm>
            <a:off x="3243240" y="4657680"/>
            <a:ext cx="3705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27160" y="2004840"/>
            <a:ext cx="8689680" cy="3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الجهاد مع المؤمن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فساد بين المؤمن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سعي بالنميمة بين ا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كرهون الح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قليب الحقائ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قول الأعذار الواه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3"/>
          <a:stretch/>
        </p:blipFill>
        <p:spPr>
          <a:xfrm>
            <a:off x="1217520" y="1197000"/>
            <a:ext cx="769932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0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395280" y="1557360"/>
            <a:ext cx="8497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2T05:56:18Z</dcterms:modified>
  <cp:revision>1827</cp:revision>
  <dc:subject/>
  <dc:title>عرض تقديمي في PowerPoint</dc:title>
</cp:coreProperties>
</file>